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8F8-9FA6-4631-8D03-0C3845DF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480-8FE2-4D43-80BA-AEE08699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00F-8E1C-46AC-8FE2-063F74F4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FD0-C3BD-4DD4-A4DC-C5669F70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43675-BD85-478C-A900-8A45002A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DA3AA-61B2-469E-9065-B6464A68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D58E9-660B-4C0D-B585-ED1163A4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CFE50-4087-4EEE-B18D-4A14F0E0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6C17C-02DB-4FBE-9E45-74C53043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F66EF-64DB-4FD4-8AB4-A3235CD9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202D7-061F-4215-BFF0-E92DDDED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DAE-2410-4ACF-9BA0-91F1F0A2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D94B0-1C78-4A3B-BC32-391C9562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C54F7-6FAA-4AC1-ABE2-F1F15316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47037-BF11-475E-8214-1D506377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7AF85-67AD-4513-A9AE-A33545B8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A29D5-F235-44F8-9003-62CE560B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9AD-5C1E-427F-A8BE-3214FC3F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1DD-4805-4A37-8EB9-51C0EEA8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644-FE34-4F73-AF7A-EAC526FE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8C9-027E-4750-B68D-CB8FD426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CE8-51EC-4465-96BA-ADF2C121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31C-3388-4790-86D5-F7AC6A1F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DC5-EFD4-4A85-8696-88EB7DC1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7870-59E7-495E-862D-45E7B685E5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AC19-9DED-419E-8623-3BFD5E58ED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5400" spc="-1" strike="noStrike" u="sng">
                <a:solidFill>
                  <a:srgbClr val="e3e3ff"/>
                </a:solidFill>
                <a:uFillTx/>
                <a:latin typeface="Arial"/>
              </a:rPr>
              <a:t>HOW  WAS  VEINCE  BULIT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WHERE DOES VENICE STETCH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Venice stretches cross 117! Small islan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3e3ff"/>
                </a:solidFill>
                <a:latin typeface="Arial"/>
              </a:rPr>
              <a:t>WHAT’S  BELOW  VENICE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1:20:08Z</dcterms:created>
  <dc:creator>6g20</dc:creator>
  <dc:description/>
  <dc:language>en-US</dc:language>
  <cp:lastModifiedBy>6g20</cp:lastModifiedBy>
  <dcterms:modified xsi:type="dcterms:W3CDTF">2011-07-12T01:23:37Z</dcterms:modified>
  <cp:revision>2</cp:revision>
  <dc:subject/>
  <dc:title>HOW  WAS  VEINCE  BULIT </dc:title>
</cp:coreProperties>
</file>